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2B9-33C2-4249-A8A7-489B90BFA0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BE2-A485-446B-94F2-AD69FFE5D3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878-313A-4E60-935F-F9FA9C3730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BBE5-8C6E-4961-9EE6-16A92D981F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E131-183A-4FE0-91F0-CC03576109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3F70-4274-4A30-93EE-E3D12FDD99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D96-1AAE-4A32-962E-A06B9AA58D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5756-8736-4B95-8C7D-2E5B4F87FF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EF4-CA4F-496D-8A14-A5D46093C1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7C0-CE39-4094-9C97-725EEDC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D82-1404-493E-B853-35524722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CC506-B795-4583-BF23-64A83CC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6C73B5-4F3A-4C37-A92A-9363562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6DD07-B7A5-4E7E-B636-C3A88A7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274D7-C28D-4CCA-8E19-2016A1C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56EAC-40D5-4CB8-839E-F3167E3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0740B-EA87-4CAD-9874-B897215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F4F30-9E18-4CEC-85C7-0603AC0F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CF220-CDFF-4703-8E9C-AE5FD74F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0A738-2907-48B0-9002-88D13723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1DBDE6-1999-4293-866C-C8655441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C9E-BBC4-42AC-962D-CCC229C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52468-1264-457F-87C3-D44CC753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B5148-EF2F-41F0-B47B-7DAB10FE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5021D-A2DC-45B8-A55F-14F4A93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A61DA-24AE-44B3-A963-359320F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E52CD4-FD1B-464A-B1EC-CA43F74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2618C-37BF-47E2-BD65-880A911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A412F7-FC15-46FD-9F66-8026B29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09D99-CCED-4703-902F-664EDF31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7B29F-4D55-4CCE-A3D5-6E7C26A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8F07D-B624-417C-B8CB-F9C408EF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E4B-D29A-4D20-ABD7-D34AD1D6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55309-7F6F-481C-A8AA-FE37F24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785963-05F5-4663-92C5-AFC01FF8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676ED3-7E7E-4E94-99CB-BDC23EA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8F92BB-03D8-412D-B335-840C73D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B281DC-793A-40F0-8649-8C90D71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BE2C6C-62FC-4C26-8117-23A9A4D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7CEB59-A5CC-4737-B47B-306E955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221DBF-5FFA-4559-959F-2A6DD2FB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B7E2C-6985-4572-B675-5DEE9B7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1BA3AD-4224-4590-8496-D2A33C1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018CF-CEA4-4FEB-BA03-1EDC2C61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CA4F5B-1D2F-4AD6-88D4-6B24157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959FDD-F9D5-427D-8B99-E24DCE09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D97209-E9FF-403C-8FBD-A51B0E6B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7F731E-0EA1-419F-992A-9F0D44F0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B224F7-CDD8-4356-BBBF-0EB5087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3236A3-0355-413F-A4CC-BBC385B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CC7822-B1CB-4013-BBFB-5046386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84EE64-F710-4DA5-97B7-97D99359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90017-C87B-4879-B20B-7F23DD2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89E368-7DA7-4D3D-8BB1-AA2E9AA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D853B-191E-4106-A957-EE1FFC7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C22ECB-1CEA-4F9A-A578-C135B91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3FD8A1-CD9A-475C-A75E-FD602C8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0E2C17-B690-411A-BAEC-BB830DA3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45FF4E-2AD6-43ED-ADEC-B16C57B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1EB813-8825-453F-BDE1-8407E198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D89105-5A92-4F58-9E63-FB141D9B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E4FF3-AB61-408E-AB7B-99E9A404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CD529D-3CDF-4D86-819E-56CC167B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F2B5DF-0CF9-4882-AEF2-03714AA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7B2C2-261D-4D09-9B4D-A92B5972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54D53-AF2E-4A95-9E76-CD049A2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13EEC7-6963-4196-81B5-332B3D8E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C50A63-7700-41A0-BDD2-73AE712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3C223-BD43-451A-9C90-51F32D8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654D82-F6C3-4FC5-B6EB-1CA981B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D31736-4862-4B81-AEB5-03FB7C4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2B63A-3988-43DD-8AD3-BE2D7C05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399D20-0EBF-41E4-8AD2-34FE2051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F335C2-95E3-4070-BBA1-5D3483F6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CD8ACD-7295-40AB-8ECC-464A6D4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2386D5-4861-4AFC-AAC3-1CD9DCAB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2E360-A0F0-46E5-B3F9-F4BA2E12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9DC32A-6332-40FA-BEB2-39ED80EA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E330D0-2985-41CD-8DD4-9842C7F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2235B8-A413-4175-9285-244DD725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D51E93-5811-4237-BEE4-7A0F25A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15424D-55D4-48E3-97EC-D271A75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3669F0-2497-4341-9A6B-65D30AD2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6AB2C7-C0F0-41B4-8C7B-A2538F1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D21B0C-43BB-4ABC-88E4-AAE8897C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D59B6E-E794-454D-9C46-EA1261B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E7CCE8-385F-4640-B16D-2131E5DA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3D6BE-3254-45F9-B4DC-613F650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B216F3-032D-47A8-812A-ACDCC2BD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20651C-44F5-486A-8935-216ACAB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93B52E-C352-47B1-9641-CB511B8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31E3B7-9404-459E-ADD4-3CB1F2E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588352-48B0-4DB2-8ECF-0841733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D853E3-6A5D-4BD9-B518-5394118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640A98-25C3-4A73-9880-72EFA6A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4547EA-97F9-4056-BAF1-B9A922D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597CA7-5E8F-4021-936C-D7A8BC7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F4305F-2D4E-4F78-B2A6-762DBF37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5D81E-C353-4AA6-95A0-7CFA8A0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5DEF51-CBBE-4CE4-8D06-41BD335B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BE1D43-5176-46EE-92B7-23C4370F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39A49B-8D93-466F-B304-118F54A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0B0383-14D6-414D-891E-F384383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A99C66-D448-482D-A9B6-A7B800C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20C3D3-CC7C-44DA-AE26-1E8BFBB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80E6BC-3BFF-4749-AAA7-9648852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E1A774-5CE4-4481-8990-4D73443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197BC9-9ADB-42F1-9B6C-A0487EA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8B9D56-7BBF-44FD-9F03-FA09F05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02783-FBB6-4881-973F-E119DED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A9FB29-72CF-4EC6-AFF5-8631F4A5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CA97BD-2C25-49AA-A6FD-F67A6A6B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AFF8F6-5C16-4128-B01D-E8A8E905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55962C-1CE9-42E1-B524-3A97B752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AB0372-6E1A-4B95-99F4-F76C527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C2BD34-A34C-4C3F-B5FD-2683BE7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B93690-CE60-433C-9B9B-112EF121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FB87C7-3AE7-40D8-8A4E-C82FF86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A419CA-2755-4A50-B2A5-2CA0DC6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FC934A-C201-458E-87EC-724AB89A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987-EE53-40E8-8E72-D950A8A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6F8E-E63B-465E-AA88-C97058A6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59AA60-6E62-46D7-9DB1-58959F8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F46A60-4191-42C1-90EB-91D8289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291B08-A40C-4478-95FC-8CD2EF9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534C18-3F9B-4FD1-91A8-A559DBCC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7AD62C-1C00-4BA4-88BD-868A6FC8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AC046E-E797-4923-995A-11BA4EE6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7EFDEF-0FA0-4F3D-BB9B-5F65F2D4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2FDA7F-A3C1-4EC4-BA73-40F5A86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76750B-2A92-48A2-97B5-94F8357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BEF171-B0AA-451A-8353-227D1CD6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223AB-5AFE-4E04-B8C9-92C60F6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358F88-DBAD-44E2-9ABA-9DFC9BD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A06113-91FF-44F5-AF3B-21FFFA3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D7AD17-DC1F-4104-8DDF-028212D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060A9C-F440-4824-A095-D03D5FB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27539B-E3C8-4942-8BAE-02CB83C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2DC0FB-8E53-43E3-81A0-B9352232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84A40D-85EA-4693-845D-9DD0C8F5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84BC5A-4858-44A6-A37B-BADB7767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7C3BD7-BEFA-4E5E-B61F-11EBC5B6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392177-B30C-427C-8A8E-248AA52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4CF5-D47B-47E4-8FA5-CCECF4E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DCE2C5-358D-44B8-A1EB-9540E032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993EAB-DA7C-49FD-9D7C-FC22C59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C1744D-86F9-4A8C-B6F1-DBFEB22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8CC140-ED63-4660-B9B8-196B950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28A44E-18AF-4B35-BF15-79038D0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3E8505-D438-4076-8818-5DE88C0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CDFE22-A03E-46A2-AABD-A31B8731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BC6DB1-D67D-4183-AF6E-F26F5DF7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9E9628-3A28-47FF-BA52-D2F34E8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0189BD-2415-4252-B091-BBCC8785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DE77-B03B-4FB4-8708-5745C2A9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EDDE7A-7CA8-4BE7-B153-1B53344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FA4462-7869-4675-AD8E-FC062D3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2136F4-8187-4085-A4FE-B1F946EC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883124-2092-4150-8ACB-CB3413C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B439B5-AD44-41E9-AD52-3927EEE1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0968C4-7DC4-4D5F-AD57-A760CFC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532598-6265-45D4-8320-25E21CF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235EA1-F2F5-4C8B-A78E-8E25045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4AFDAF-98C2-45C9-95E2-02738E6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98D90A-AEFE-43DD-B236-D892F22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E0191-D8D7-428F-86C5-40A8EA0A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5107EB-36AA-49CF-B818-1F3661FF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8AA76A-FD71-4759-ACE8-F1879310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9C53A5-5600-4AEA-A6AD-05E4A68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0D27CF-8A7E-488F-AEAA-C3D2D91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B8C84B-8060-4657-8093-C513565E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03509A9-1CDA-4FBD-8ADB-D654F295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DFDE932-8BBD-4722-AF04-A3CEEAA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CBFFE8-EC90-4F4E-8316-815D7C3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00F7D3-6214-47C8-BF0A-45651B5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41784B-B1C5-4649-A3F2-4A8C7C28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F5A95-A4E9-4D2C-96D4-2549222B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292B9F-52F4-42F5-A986-AB87A24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411943-80BB-49A3-9CC9-CF538FA1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BC8F05-A295-4BAA-AE7C-56763B0D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622BB-7C1D-438C-B71A-2749D07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5EE17-4276-4724-8BB7-C3EBC550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76E20-6425-4EC3-9697-35B15BA0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202E5-D0CE-4C5B-A9F9-7BAB4197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957-0CD7-41DC-9971-60E55743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7F1F4-EDDA-4AE3-B443-C144BCC4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49A91-48E3-416E-993D-306D888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771BB-33CA-438E-BCB8-223E06D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C51D2-27CB-4437-8E45-86EB4C4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A77DB-61F6-49C1-9863-D8262688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73BBC-8259-4949-83C8-8B6E17E9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7008F-08E1-4379-B144-CE52D079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882B3-6038-4F4A-BA51-52447788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BD53B-B07B-4BDB-8337-81758E76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18A23-7B38-4C15-908F-EC7953B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106-AE87-4D70-BD76-99D8111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4AF73-31C0-4DCB-B29D-2B52147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39894-0C7E-4035-B66C-60D3FB19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C9F6A-EDFE-44BE-BBB4-FEE633B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AF541-4F91-4151-81E8-B58489A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BFE1D-C408-4A62-9900-A4E0D21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E6FEE-2CD8-4722-AA69-3374355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6F097-F262-4121-B43E-0D664BF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14484-FA5D-459F-8DEE-D0B739DF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4106A-BC33-421E-8172-44BC8B40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FA96C-4860-4A13-AA21-8F647DC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594-0BC4-4970-8970-7A3C229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84768-A2FA-44B6-8C27-2960E43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A650F-75C8-41F2-AC8D-A27C994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04FF6-F384-402E-AAC2-AEED1B3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EDD23-D7DA-4D8A-8C6A-F60780D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F9270-690B-4004-B2E4-F96C002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F01FF-BB50-449A-81D4-9E89F0F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E4672-301D-48EF-A327-CFD0D3A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50A1E-EEC4-494C-AB43-BCD92C3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4AAAB-B7A4-41FD-ABFE-72C7655F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C3F92-9072-4CA0-AC42-771339D8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98C-CCD0-449A-93A4-41B3127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7B961-DFD9-4F8E-9D8D-A3880DFC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D2DC9-4CD2-4FBA-BA39-78E750DD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9B6E4-50A8-4EF7-8841-8E92E34C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D876F-108D-43EE-8EA8-93799755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32FCC-6060-4160-A810-C6C8BA5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7FF0F-2328-457D-8933-952228F4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CAC22-48E1-4AC4-BA66-8096165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6E57D-5AFA-458D-89D7-A44A199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1CA68-8A81-447B-B550-901D9ED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D623D-B335-4E6E-A50B-38E79B5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AEA-2337-4E0A-9787-07726EB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C13A7-D640-440A-9C56-2C61206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4048F-5AF0-4089-A372-F079039E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C1394-A50D-4266-A532-E7A958AA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4DAA2-BAD5-41F8-9C21-EAE7C0D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203DA-6691-4C01-95D6-9C440A4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93053-66C1-404F-B44B-83469D0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DEE3A-7ED2-4684-BC9B-8C17D9D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347A3-4A4A-4474-9F4D-17D31E38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4246F-6669-4002-A9C6-7377E15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55BE4-199E-40BB-94F3-644611D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2C0-3F7D-4756-B656-CE2EE6D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8F9F6-5090-41C8-BCD7-35EFE9E7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CFE6E-61FF-47F3-B17E-877E061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EF878-2480-44E2-9C73-750581E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812A8-5C99-41C0-AA69-D9A45CC8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9D6D3-7147-400A-8DF1-36AA5496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0A1F3-A89B-4517-A0FB-9342C6E0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52885-9473-45C0-B09E-89B53BC4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652B6-FE3F-4B9C-A58A-CA02537D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BA0A2-F98A-4337-93D0-3C621A94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06F08-E44C-499B-BD0F-E277DF1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D96-B427-4BDE-881F-E7C1F5C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7C7C9-F510-425D-94C9-A32ABC1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9E652-E6F9-45E2-8288-E557E6B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8481AE-2E7C-4224-A6E6-B876684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5EEE1-3935-4D4E-B606-4362E65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BC774-1BB3-4895-AC71-E16B848A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ACF84-7254-441C-AE42-C25AB0AA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7384D-4C77-40A4-9204-2147F99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68F46-12EA-4000-A265-E1281CFC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EEFCC-4AC7-43AF-A9B9-FDA8CAC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71ABD-491F-48D1-B661-9D03F8F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9D6-66FD-4310-B0EB-00E9F6C8D5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2AD-D261-4D88-B661-A5C1F6351C7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E144-5E95-4FB7-862E-63FE3281F87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BF9-2933-47BB-AC19-BF431705FE7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13A0-21A5-4D89-8026-1EAE08FCB46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9E0C-92B2-41A4-B42B-004FA270E49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E23E-6E4C-46BD-9D72-1C5CDB9918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077-CF6E-4007-8241-00AFAF8BFA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977-C5BE-4A5A-9F44-638E0CC67CB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319E-7857-4CF3-BA9C-F69FC9B7699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7D77-C34F-424A-B2C9-20098C25DE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21E-BC05-46A9-AA66-5BCA65C0E6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E2A-13D7-41BC-B835-7EEB43C2742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967-B7C2-4213-8125-5E1C0BBEEF0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FC9-F57D-4786-813A-98017AC168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5E1A-33D8-42FB-8F47-C8B3EFC5F2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920-A8AC-414F-B546-6F9FF941C54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C6C7-7FAB-47EB-AD7E-CC83A888BDD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BF4-6CBF-4AFC-894F-F2D2FB2D543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AF38-10DB-4899-8819-E185066A3ED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2E3-3168-463C-89C1-605DA459CAC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HACEMOS PAN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MAKE BREAD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 QUIÉN INVENTO EL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O INVENTED THE 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6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pan aparece con el hombre en la prehistori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e bread appears to man in prehistory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9" name="j0341658.jpg" descr=""/>
          <p:cNvPicPr/>
          <p:nvPr/>
        </p:nvPicPr>
        <p:blipFill>
          <a:blip r:embed="rId1"/>
          <a:stretch/>
        </p:blipFill>
        <p:spPr>
          <a:xfrm>
            <a:off x="428760" y="2928960"/>
            <a:ext cx="7500960" cy="28573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5105160" y="228600"/>
            <a:ext cx="3538440" cy="62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os egipcios entre el 8.000 y el 6.000 a.C. ya elaboraban pan como lo conocemos hoy en día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Egyptians between 8,000 B.C. and 6,000 B.C. elaborated and bread as we know it today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1" name="j0321055.jpg" descr=""/>
          <p:cNvPicPr/>
          <p:nvPr/>
        </p:nvPicPr>
        <p:blipFill>
          <a:blip r:embed="rId1"/>
          <a:stretch/>
        </p:blipFill>
        <p:spPr>
          <a:xfrm>
            <a:off x="304920" y="357120"/>
            <a:ext cx="4754520" cy="614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2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Qué necesitamos para hacer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we need to make 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3" name="j0321055.jpg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2412720" cy="1609920"/>
          </a:xfrm>
          <a:prstGeom prst="rect">
            <a:avLst/>
          </a:prstGeom>
          <a:ln w="0">
            <a:noFill/>
          </a:ln>
        </p:spPr>
      </p:pic>
      <p:pic>
        <p:nvPicPr>
          <p:cNvPr id="944" name="j0321101.jpg" descr=""/>
          <p:cNvPicPr/>
          <p:nvPr/>
        </p:nvPicPr>
        <p:blipFill>
          <a:blip r:embed="rId2"/>
          <a:stretch/>
        </p:blipFill>
        <p:spPr>
          <a:xfrm>
            <a:off x="3882960" y="1828800"/>
            <a:ext cx="2633760" cy="2554200"/>
          </a:xfrm>
          <a:prstGeom prst="rect">
            <a:avLst/>
          </a:prstGeom>
          <a:ln w="0">
            <a:noFill/>
          </a:ln>
        </p:spPr>
      </p:pic>
      <p:pic>
        <p:nvPicPr>
          <p:cNvPr id="945" name="j0341706.jpg" descr=""/>
          <p:cNvPicPr/>
          <p:nvPr/>
        </p:nvPicPr>
        <p:blipFill>
          <a:blip r:embed="rId3"/>
          <a:stretch/>
        </p:blipFill>
        <p:spPr>
          <a:xfrm>
            <a:off x="6497640" y="2335320"/>
            <a:ext cx="2927520" cy="19987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14200" y="328572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evadur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Yeas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357800" y="450036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Agu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000920" y="435744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ar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Flou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9" name="j0321101.jpg" descr=""/>
          <p:cNvPicPr/>
          <p:nvPr/>
        </p:nvPicPr>
        <p:blipFill>
          <a:blip r:embed="rId4"/>
          <a:stretch/>
        </p:blipFill>
        <p:spPr>
          <a:xfrm>
            <a:off x="1743120" y="2687760"/>
            <a:ext cx="2511360" cy="25495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1928880" y="507168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a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Sal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5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DE DÓNDE SALE LA HARINA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ERE DOES THE FLOUR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2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y que moler el trigo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have to grind the whe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5" name="j0341658.jpg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3286080" cy="285768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214200" y="5438880"/>
            <a:ext cx="8672760" cy="14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Antiguamente se molía en moli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rmerly was ground in m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7" name="j0178459.jpg" descr=""/>
          <p:cNvPicPr/>
          <p:nvPr/>
        </p:nvPicPr>
        <p:blipFill>
          <a:blip r:embed="rId2"/>
          <a:stretch/>
        </p:blipFill>
        <p:spPr>
          <a:xfrm>
            <a:off x="3857760" y="207180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EL PAN ES UN ALIMENTO SANO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EAD IS A HEALTHY FOOD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9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  <p:pic>
        <p:nvPicPr>
          <p:cNvPr id="960" name="j0178459.jpg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858000" cy="492948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13840" y="5285880"/>
            <a:ext cx="867276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NO ABUSES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Do not eat much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0:17:14Z</dcterms:created>
  <dc:creator/>
  <dc:description/>
  <dc:language>en-US</dc:language>
  <cp:lastModifiedBy/>
  <dcterms:modified xsi:type="dcterms:W3CDTF">2012-03-08T00:51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3082</vt:r8>
  </property>
  <property fmtid="{D5CDD505-2E9C-101B-9397-08002B2CF9AE}" pid="3" name="_Version">
    <vt:lpwstr>12.0.4518</vt:lpwstr>
  </property>
</Properties>
</file>