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5.png" ContentType="image/png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3607-8777-40D0-8517-482B2ABDCA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5AB8-D837-4243-8EA8-7674EC281A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A04B-ECEF-4BB4-871B-54D1BF8E1E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71F7-41B0-4B41-83B7-65EF441B19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0C2-60E7-4156-BC4A-9C93F2A78B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0BA8-B674-4F87-AEEF-6758890BCDC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7A17-DB7F-40BE-AC1E-6C6A83CE79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DB2C-D855-4ABD-969D-A4F657F7E5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F2B-A7DA-41A9-ACA2-785D437552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014-15C9-43EA-9233-A35E44F3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8F8-6331-42A9-8E6B-31CBFA94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76B63A-6F45-4B28-A4CC-838B867B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FE01C-9888-433A-980A-2FD601C8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49E264-D317-4C93-822D-2BFA4056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FD8AD0-F165-4183-BB77-D6326D40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793FC2-06AE-4218-BAFF-345653E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A0272B-22F5-4292-B0CE-BB436EE4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8B65A4-4418-4C36-977C-BEAFD7B9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2E00AE-8074-4BDA-AA35-C63529E5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7E1E3E-6B9C-49C6-9B7A-516B81EA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8B3FA9-5443-434C-B149-4C5795E9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000-93B0-4E63-86C0-4A7746A9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C96887-3C20-484F-9152-6E8C5397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2188F1-6343-418E-8579-5A057689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4DA3D0-CFE3-4608-BD89-6DEF4404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65C7FE-70A5-40B6-9697-488B0D0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1BB0BF-4BC2-4B4A-BBE8-0E3D082A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BA67DE-854E-42FA-A000-989AB1A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99ECE1-7189-40FE-9A1C-6C1521A2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136B11-4947-4DEA-BC0F-CAFBEEC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0C2B56-6C98-4895-996E-AD300439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EC7044-EA7C-45EF-BB6A-8E872AA4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E9D-F6FC-4CA2-8A46-2B864298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CE3328-44E2-45B7-9710-E8A4BA22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7AEA7E-E65E-4A74-AF47-938779B2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D9EF06-C4AE-4870-BE17-EBB96E37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75B863-A370-4426-AA78-3AFB5215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D51B3D-6106-492D-9670-FF898FC6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145125-C3B2-4EA8-95A9-071B93CB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5423C5-2978-436D-8235-011889F9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85ECB5-A24A-4EE1-922C-DE22721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FE1C06-F530-4407-B278-E739FED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3340F6-7BEE-44AD-BB64-5F6F48CE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28F78-723D-4858-AFE0-CBF49A92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96A4D0-E50A-4C9A-9DCF-1D7437EE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D3AB28-7383-4A68-B693-2E2758AD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C64436-6934-4264-83D4-388D5794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EA60C4-4091-4BAF-B102-C5FF0CAF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0599F4-6CBB-48D7-AC12-4D09B7F5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CE500A-9FC3-45F6-BE6A-5F0E5DD7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3BDEFD-91D1-466F-9D27-3A6FA862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CE3D5A-EB2F-4B67-9C41-C90D776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41E808-4DA7-4650-91B4-5F3192E3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EF0D73-3C02-47A6-BDA1-D70999F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DC5D7-8A2E-4523-9EEE-36A469EC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192E43-49D0-42B4-85C7-C7C847B9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C23FBC-1A02-4307-9777-A8AE179C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3C8FB0-2ABE-46A3-86ED-14B835FD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53E259-1E7F-4EFE-BB73-55018264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FB4A94-555C-4C3B-9958-25C74A9C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E7B8EF-B408-4C4C-9CC9-6D5E9355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B2D336-EE1E-46E5-87A2-0AA97E7B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D721BF-1E2D-4E77-8167-E3CA014F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01D7B1-2B92-44F7-B96F-E3E22981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1A6E6D-19C0-4B6D-8465-DF0ACDB3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86A0E-9344-43CA-8D27-7D6D4206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633CE4-A18D-4E55-B90C-52A31951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CBDB1F-8226-4CAF-8D19-F424B8DA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86FDE3-9BBE-4CE1-8FC4-2D494CD8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7CA596-4A0B-4C86-B388-7E43991E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F197AD-ECB3-49A2-8BB4-237BB18A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D0059F-42E1-4AC5-8912-D28E0C5F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B4FA5C-F3FC-4B08-82DA-D6BA620C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06CA44-98F9-404C-8D10-234FE35B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839C75-A298-4F8F-8A6E-4BD7987F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55874B-C4FE-44F6-9F54-8E46DE80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80459-CE28-499C-8A7C-735C02F6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AA15DA-46BB-45E2-BFD5-8977F08A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7D51ED-6C7A-4F5C-A079-22CEC9F1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9EFEC1-FD9F-4F64-9226-434B5A65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5F78AE-D911-45DA-B8FE-29DA1E2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20F1C3-C374-4DC3-BC3F-84ADB7E0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D6ACB6-869B-483F-9950-A09DA8AD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E01CD2-6F9D-473B-A119-A10C96B7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65B150-28F4-4CCA-9BCA-69C2AB66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E06517-A2B0-4918-A606-9EADCE39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77D374-78A3-4A5F-A1D8-6E3AECA4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8320B-0B81-4D99-9AC8-1C4FA136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8E18BC-A4FD-45E3-B3BF-FA7889B2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3288FB-1652-4BBB-B7F6-BA7D6DAC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CCD3DB-A6A8-4E95-ADF3-42FA4740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9B99D7-A681-41D4-A393-A5506F45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C5780D-6DB6-41D4-BE2F-CDBE4FB9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02EFB6-732A-4F6D-B932-2BD3FB2D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C8A69D-0E31-4B3D-B07A-BFA0370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2DB238-7011-4F78-8E74-29BED3D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815939-958F-4EF4-9B40-3045DA60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B57D1D-58F7-4E54-8631-EB301925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E1C6B-BE4D-4DDB-9FA8-D9C43889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07216D-70F2-4B6D-87DB-B57EA2C8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B0B7E2-1E4D-41A8-A216-038CDD42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8A3689-F924-47EB-88E5-3A3D11C8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BD6703-AE49-4E43-A4DF-1182ECE5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AAF2C7-9E26-4B1C-938F-974A6ECD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AA60A5-0FF6-44A4-98FF-DDA3EF37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3D8C4F-C3F7-451A-AC7D-6542307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CF60BF-55B1-4DB7-8AA5-5FD9563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99D4F4-9AD5-4287-B9B6-50112DA5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F0DE36-637C-4993-B627-A340504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FE3C8-8AAD-491F-83DF-064BFEE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010932-BF50-4CB4-BFAD-5A965C75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C38BAC-3AB0-4494-BF03-2B71A424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BA6F94-FEA2-43CB-BBEA-E8512844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E2A92F-A4F5-4484-961D-DAACF8DA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D27DE1-FB92-4654-A205-41231301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5B74BB-09A4-4EE5-B098-429A9B43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616696-9339-4C76-A668-190ED3A0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622630-A36D-4559-A116-9F50383E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27DA42-273A-4B52-A6C1-DF070FA1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89BDAE-4AE2-4CD5-9051-7AEB4A83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C21-4F60-4578-A89C-5C7E5D22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02074-542F-4220-8923-85D6723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D19AD8-C91A-415B-AAF4-7FD20D55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9AC464-E7D2-441C-9983-1D835C38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1AEB8B-235F-4D95-ABA2-B1AB1721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03C35B-7E79-434E-B179-1CA425D6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30B719-5F9E-4DE4-A444-758054E7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0A8B98-E08C-48B5-9A60-3A7EF470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5B1038-FEE8-48F8-91AE-E548EF0B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FC8A4C-D2A0-4750-8295-C41B4A2B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FF5462-3A42-4300-8FE8-44C1BC9A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73FAA3-45AC-4CF0-9E70-4EA2D55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CCAE7-A5F2-42ED-A26E-97970005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D21413-613D-4DC2-B172-03C9360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EB172D-CDD8-47B3-8255-CC0BD0C1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8E7842-A402-4777-A82E-B9547B75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56CF37-5906-4FB0-9BC4-8D79617C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7A5392-FD52-4909-92B3-32E0680F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F48F4A-1CB8-44BE-B52F-5E2CF3D0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07887C-3341-41E3-ABBE-C37E7133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4D51A7-5F53-432C-A3D8-53DAED31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F8EDC0-2C57-429C-B19E-F83392E6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85C656-1125-47D0-8F80-C73851AC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81B7A-2E1A-4C32-A19D-FB6C5D9D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32454C-1710-4F8C-8929-8FEDE978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B264D8-35CB-40EA-9DDE-9BB23074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9CD8B9-1A5D-408B-B487-1E73C13A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817B881-8EF6-469A-82D3-B7F5130D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752039-2114-4FD2-B229-284C3218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4F3A999-5367-497B-9709-82EBBBB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2D5EA9-213B-4ADA-8E04-37727522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786255-282F-4CD9-8FFA-2762EDAD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DEAFD4-A12C-45DD-B7D9-AFCB2620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7FBF1F7-4FD5-42BD-9123-133DE041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7456A-2D27-4F8D-87C1-1A25E004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466CCCB-9DB8-44FE-987E-15B1228E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4AD02A-70B1-4ED7-A6F0-9AE48EC6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ABC01E-C8B0-4156-A6A4-E61253D6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64D815-F6FE-4F8A-B404-8B698294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4D65AF-B9C4-475C-9A5C-B4DB5B8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43637D9-31C1-4063-87A9-668C533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380FE14-44AB-4782-BA93-11F8390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D7819B-1FF9-4509-A5AE-ADC2464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C76F5F-3017-43DF-BC50-EE364F36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3E1D60-294A-4A21-9ACF-7A0FFDD7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FDF51-5CFB-4AF5-BA36-9E1642DE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E2CAB03-83C5-4336-BD71-C30292DB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BCD26E-C245-44B8-95B9-DA785C7A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E953AA-78C7-4DDF-BCB9-CF9A3407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DF1DC7-40F3-4A75-AB9F-2C578D13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8C931F-C82E-482A-BDC6-951EFA20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EC7A82-5F4C-464F-A662-A06A3BFC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DF0ECF-BA83-4E54-BB20-6C94E992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9DD934-1D18-4A78-BFE7-4CEB9C5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3F81692-CD5E-444C-94A0-5B876863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0151FA-824A-40E1-9E45-36B2717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10BFE-82E3-40C5-84A5-13A7BAAE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989C74-592C-48E8-8A59-41DE1226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B03CA96-D49E-4C65-BDF9-F476B413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A4A284-F544-4248-B2F2-027298D1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EF130-5521-48D6-AB90-229B7FB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27CC1-C37E-4BAA-A87B-BEEB7CE3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5C375-D5DB-4D05-831B-E65705A9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27810-9A5B-4CD3-B4A6-96AD7E7D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E21-EB38-4D38-B1E9-27F98EBD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C4220-8EC5-4163-904F-B4EADB89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84797-8DD4-48F5-956D-E5025443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A6022-8476-46C1-A5F7-167C580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2A353-572B-497C-AA64-7EAA95D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4D4FD-60CD-47F5-943A-A116AB6C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AE0E9-DF57-4125-93A3-0ADE34BB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7EA5D-83B4-49B5-84E9-BB90BD03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F1E2E-28CC-4849-9B2B-37A612DE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582C1-9984-43DC-B080-863C1CA5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3F05E-9AE5-46EF-B589-EC623542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79E-28CC-4D9D-B80F-EF53210B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2ABA7F-BE66-4185-84BC-559A0168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E19B4-AC17-4892-BDC7-C07BB9D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098F3-56B2-46AE-90BD-B9ECA253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9B0DF-CB26-4F4E-BE1C-B7BF016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35E1D-0B35-4BF5-993E-D8A55B5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B7277-CF38-4F82-9AC4-E098BB4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4D622-A558-45C1-849A-DFF8314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2D2DD-C93B-4565-93CF-F5DD3652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75FE3-5675-4C83-A38D-108CC326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B1FAD-DFE9-4CE8-B08B-D08DC2E5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7FC-C31E-4E6D-B32B-B6847575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08E69-C869-4491-BE30-DA98FEAF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07C37-9E21-4332-AE8B-CB643335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3EB5BB-0935-4165-AA23-FFF892E4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221E7-772A-4D4F-BDE9-CBF888B0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7E955-648A-42F0-B325-D6553ACF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862EB-AD2C-4EDB-BBCA-C85583D9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248BF-0918-474E-9D59-5FBEC2F4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2341B-D571-4CA9-A345-00DC3E1D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0AE76-063A-4C51-87B5-967217AC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36F04-2425-4736-8E18-EF5AEA99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EF9-188A-4AA2-9EC1-2B9E1305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AE6F6-7B4E-40F4-896D-D0A57FF7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2BF30-5CAB-43E1-816F-70B60085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67D0E-4106-4970-9071-EC984B1A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AAD41-9E3A-47C8-8588-96BAB44C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CBE27-884C-4A7F-8F2A-58ACD31A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2939F-C884-42E8-BA21-35AFA276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E7644-6A3F-4539-9B1A-3F9ED6B6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DC4D4-52FC-45E7-AB93-BCA6477A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98D50-1FA9-497F-99E9-6F43AEF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88A4A-CD5B-4466-AFE1-466D17DC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E6E-5A03-411E-86CA-F73888E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1C0ED-0070-4F90-9C2A-D9AF8C07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93F25-5831-40D7-AA32-5186ED45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B47B5-AB93-4456-8B2A-80E70466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E4668-46E5-496F-A9FB-565A218F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CB559-144F-4007-88F3-AD02AE22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75126-3750-4485-8EA0-C2983C15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4D1D7-C1DB-4451-9334-0E739A03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47E27-DACA-48DB-8316-5161ACDF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6CD94-6ECE-449C-A4FD-91FA72FC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39EB7-8D2B-451B-8EC8-C37A58E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AF6-87C8-460A-B519-1A3F06C7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C80FB-085F-4D18-8B45-7D4645DE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D646A-F7BE-49B3-8D2A-B4F8DAC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15C46-4E05-44BF-B51B-2877A267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18F72-20F3-4156-8562-AC388E9F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3B37D-B168-48C4-B8D1-D4B0ADB7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EEEF2-4C5D-480C-8BD3-E335F098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5AED1-498F-4F7F-B9F5-2D0B9D94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0D8A41-7363-4A85-A45C-F85037B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0C2498-0B23-4031-A828-57E5C0C1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B05F8-EC41-4CB0-9867-FAE63151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813-F595-40AD-81F5-FCB0F7E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36A49-900E-4B4D-98A5-BD9BB145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EDFCE9-0470-4CF1-B6BC-5732C67F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36507E-81FD-4FAE-BD0C-4DE9A4D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4BEA42-6CD2-4499-A98D-8152473F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92125-0B33-49C7-834F-C0E84FA1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E8FCBD-51ED-4E3A-B122-86586FE3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78B5C-7A39-43E7-82A3-9D8D4424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C1679-24EC-46C8-9BDF-B2B698BD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C9F4B-1910-41BB-AB8E-2BE38E2D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2621D3-080D-49EE-8B27-CA2B683D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2C0C-A1B7-4AB5-B042-3E99439BC8D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888984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A9A8-4B60-4255-9A4D-501D6298D5E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3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3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290F-19B2-4ECF-A4D5-46974B45DF2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3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3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0B64-A5EC-4B28-9C24-D2ABAC94800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6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3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87B-F739-4486-871C-77C20EC9D46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2019-F234-4673-BAAE-57CBDBAC780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4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4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A68A-EFE0-4E72-B62B-20C7D1654B7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4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0EA2-C9A4-495C-91FA-84B4EE05A6F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5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1A46-9A73-45BB-A1ED-43066F3F76E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5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5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0C28-C5CC-4B1F-96B6-15208C627E3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5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5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4986-D7EF-4BD3-8F36-65B0A0D9B42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ftr" idx="5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7162920" y="136440"/>
            <a:ext cx="228600" cy="52578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7467480" y="133200"/>
            <a:ext cx="1447920" cy="525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62B6-C4DD-4CD9-9106-E3CD1A859C9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 rot="16200000">
            <a:off x="7296120" y="3698640"/>
            <a:ext cx="2933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5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5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9AE3-6348-4AED-B414-897AACE947D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ftr" idx="6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6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71F4-B30D-4436-911F-9A9E4E49AE0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ftr" idx="6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A9B6-1923-446D-BA91-1AC61D8417D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20F5-690E-4A1C-907C-92E43F87FC8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AEA-EDA6-4434-ACBE-1530E028837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2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 flipV="1" rot="10800000">
            <a:off x="434520" y="6171120"/>
            <a:ext cx="7086600" cy="6858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434880" y="0"/>
            <a:ext cx="7086600" cy="1981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8F23-6B78-47B5-A5E8-A29B0ECCF2E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2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CB31-9E74-46C9-B15F-9FEBA07FB6E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8E30-34F4-4B00-B4EB-AE39B8B82E1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B7A3-3E7F-4855-8F63-7B0D791A468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228600" y="5285880"/>
            <a:ext cx="867240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 HACEMOS PAN 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 MAKE BREAD 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4" name="j0178459.jpg" descr=""/>
          <p:cNvPicPr/>
          <p:nvPr/>
        </p:nvPicPr>
        <p:blipFill>
          <a:blip r:embed="rId1"/>
          <a:stretch/>
        </p:blipFill>
        <p:spPr>
          <a:xfrm>
            <a:off x="228600" y="200160"/>
            <a:ext cx="6858000" cy="50148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213840" y="228240"/>
            <a:ext cx="8091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 QUIÉN INVENTO EL PAN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HO INVENTED THE BREAD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6" name="j0321055.jpg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254640" cy="42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7086600" cy="381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y haga clic en los marcadores de posición para agregar sus imágenes y títulos propios.</a:t>
            </a:r>
            <a:endParaRPr b="0" lang="en-US" sz="1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7643880" cy="2076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pan aparece con el hombre en la prehistori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e bread appears to man in prehistory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9" name="j0341658.jpg" descr=""/>
          <p:cNvPicPr/>
          <p:nvPr/>
        </p:nvPicPr>
        <p:blipFill>
          <a:blip r:embed="rId1"/>
          <a:stretch/>
        </p:blipFill>
        <p:spPr>
          <a:xfrm>
            <a:off x="428760" y="2928960"/>
            <a:ext cx="7500960" cy="28573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5105160" y="228600"/>
            <a:ext cx="3538440" cy="62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Los egipcios entre el 8.000 y el 6.000 a.C. ya elaboraban pan como lo conocemos hoy en día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Egyptians between 8,000 B.C. and 6,000 B.C. elaborated and bread as we know it today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1" name="j0321055.jpg" descr=""/>
          <p:cNvPicPr/>
          <p:nvPr/>
        </p:nvPicPr>
        <p:blipFill>
          <a:blip r:embed="rId1"/>
          <a:stretch/>
        </p:blipFill>
        <p:spPr>
          <a:xfrm>
            <a:off x="304920" y="357120"/>
            <a:ext cx="4754520" cy="614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285840" y="213840"/>
            <a:ext cx="82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Qué necesitamos para hacer pan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do we need to make bread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3" name="j0321055.jpg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2412720" cy="1609920"/>
          </a:xfrm>
          <a:prstGeom prst="rect">
            <a:avLst/>
          </a:prstGeom>
          <a:ln w="0">
            <a:noFill/>
          </a:ln>
        </p:spPr>
      </p:pic>
      <p:pic>
        <p:nvPicPr>
          <p:cNvPr id="944" name="j0321101.jpg" descr=""/>
          <p:cNvPicPr/>
          <p:nvPr/>
        </p:nvPicPr>
        <p:blipFill>
          <a:blip r:embed="rId2"/>
          <a:stretch/>
        </p:blipFill>
        <p:spPr>
          <a:xfrm>
            <a:off x="3882960" y="1828800"/>
            <a:ext cx="2633760" cy="2554200"/>
          </a:xfrm>
          <a:prstGeom prst="rect">
            <a:avLst/>
          </a:prstGeom>
          <a:ln w="0">
            <a:noFill/>
          </a:ln>
        </p:spPr>
      </p:pic>
      <p:pic>
        <p:nvPicPr>
          <p:cNvPr id="945" name="j0341706.jpg" descr=""/>
          <p:cNvPicPr/>
          <p:nvPr/>
        </p:nvPicPr>
        <p:blipFill>
          <a:blip r:embed="rId3"/>
          <a:stretch/>
        </p:blipFill>
        <p:spPr>
          <a:xfrm>
            <a:off x="6497640" y="2335320"/>
            <a:ext cx="2927520" cy="199872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14200" y="328572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Levadur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Yeas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357800" y="450036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Agu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7000920" y="435744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Harin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Flou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9" name="j0321101.jpg" descr=""/>
          <p:cNvPicPr/>
          <p:nvPr/>
        </p:nvPicPr>
        <p:blipFill>
          <a:blip r:embed="rId4"/>
          <a:stretch/>
        </p:blipFill>
        <p:spPr>
          <a:xfrm>
            <a:off x="1743120" y="2687760"/>
            <a:ext cx="2511360" cy="25495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1928880" y="507168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Sal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Sal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fade/>
    <p:sndAc>
      <p:stSnd>
        <p:snd r:embed="rId5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213840" y="228240"/>
            <a:ext cx="8091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DE DÓNDE SALE LA HARINA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HERE DOES THE FLOUR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2" name="j0321055.jpg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254640" cy="42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7086600" cy="381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y haga clic en los marcadores de posición para agregar sus imágenes y títulos propios.</a:t>
            </a:r>
            <a:endParaRPr b="0" lang="en-US" sz="1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7643880" cy="2076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y que moler el trigo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have to grind the whe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5" name="j0341658.jpg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3286080" cy="285768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1"/>
          <p:cNvSpPr/>
          <p:nvPr/>
        </p:nvSpPr>
        <p:spPr>
          <a:xfrm>
            <a:off x="214200" y="5438880"/>
            <a:ext cx="8672760" cy="14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f497d"/>
                </a:solidFill>
                <a:latin typeface="Calibri"/>
              </a:rPr>
              <a:t>Antiguamente se molía en moli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rmerly was ground in mi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7" name="j0178459.jpg" descr=""/>
          <p:cNvPicPr/>
          <p:nvPr/>
        </p:nvPicPr>
        <p:blipFill>
          <a:blip r:embed="rId2"/>
          <a:stretch/>
        </p:blipFill>
        <p:spPr>
          <a:xfrm>
            <a:off x="3857760" y="2071800"/>
            <a:ext cx="4782960" cy="35719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228600" y="5285880"/>
            <a:ext cx="867240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EL PAN ES UN ALIMENTO SANO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READ IS A HEALTHY FOOD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9" name="j0178459.jpg" descr=""/>
          <p:cNvPicPr/>
          <p:nvPr/>
        </p:nvPicPr>
        <p:blipFill>
          <a:blip r:embed="rId1"/>
          <a:stretch/>
        </p:blipFill>
        <p:spPr>
          <a:xfrm>
            <a:off x="228600" y="200160"/>
            <a:ext cx="6858000" cy="5014800"/>
          </a:xfrm>
          <a:prstGeom prst="rect">
            <a:avLst/>
          </a:prstGeom>
          <a:ln w="0">
            <a:noFill/>
          </a:ln>
        </p:spPr>
      </p:pic>
      <p:pic>
        <p:nvPicPr>
          <p:cNvPr id="960" name="j0178459.jpg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858000" cy="492948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13840" y="5285880"/>
            <a:ext cx="867276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NO ABUSES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Do not eat much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fade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0:17:14Z</dcterms:created>
  <dc:creator/>
  <dc:description/>
  <dc:language>en-US</dc:language>
  <cp:lastModifiedBy/>
  <dcterms:modified xsi:type="dcterms:W3CDTF">2012-03-08T00:51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3082</vt:r8>
  </property>
  <property fmtid="{D5CDD505-2E9C-101B-9397-08002B2CF9AE}" pid="3" name="_Version">
    <vt:lpwstr>12.0.4518</vt:lpwstr>
  </property>
</Properties>
</file>