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5.png" ContentType="image/png"/>
  <Override PartName="/ppt/media/drumroll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14E7-E995-422C-9401-17400A098C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403A-C01B-4800-B964-9F9408BDD2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A5B2-CE7A-453F-892E-83B6F07BA2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9005-BE24-4673-ACDE-69FA0CACBBD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4AD9-3C06-483E-8AAF-BD71BF8DB7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65E8-536C-4AB3-9206-65E2BDED8BE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B060-6398-4936-8D50-B706DCAC58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FE06-8A8A-4EA3-98CF-1538EFCB39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E701-2DEA-41AC-8FCE-5E06535A2B0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AEF-670F-448D-9B09-B1190A84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4A2-6866-4CE0-BCD5-28404111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DC6CC1-BB4D-46F3-AF50-654C8A06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DDD0BF-8F8F-48D7-B6B5-E34E066E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40CE3D-9318-4D86-B00A-B8372931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5B27E6-F41C-4994-8575-9EDF023C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3B2F55-3795-4814-8421-859D5133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F1D342-ABC7-4C76-91D4-51519D0C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47336E-7AED-434E-A91E-ADE8B5E1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9D4D1D-C09F-438C-BAF3-0A060D2B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B61A20-72B5-4BE5-B6A2-B06282C8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32422D-6C0F-46A6-B0F2-B0E78C62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7C0-61B8-4B21-8398-612CAB17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B4BE16-13DD-4DEE-A0B4-3A9BAF91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75471E-6146-43B2-801E-9AE4AA2F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EEC076-E6F8-4D28-8284-BDD3EFAA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3EF287-9547-445C-ADF7-1CF95DB4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D22021-4818-4A38-94FC-AD0FABC5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1E5AB5-5F7C-44EA-BDEF-35870DC7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0CE3A3-348E-4811-8EC3-2E109734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E2B82F-552E-401B-9CB4-AB541699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2C7C28-D892-442D-BAF1-5E7C37F3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21D1A4-9D2A-4E59-9185-B57C29C4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CE1-A8F9-40F3-AFF7-5323B874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B76177-9ABF-4D39-9D52-F68CB8DD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31D192-DB74-4271-984B-54094E92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778DAE-F2F2-459C-A2CF-19451477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F3281D-D32F-4C73-A2B1-A9809D05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19AD5E-34CD-46CE-82D0-95F33F0F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C87C09-76C5-42F6-8EBE-9455F0CA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3DDFF8-B6CE-46AC-8B8D-6CAC5F8A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55E739-CE7A-4D29-B30E-B3D0CEFD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FFAB15-6E88-4279-96A9-970744B6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ED6F3D-8306-41D3-A4B9-2FAF7375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83D08-27E8-402B-AABD-8950ED81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E56E23-103D-4D07-B8EB-20BAE9F9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96D970-277B-42B1-8C89-069A6DF4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1327E4-4ED6-4B5A-B417-A22FCAC2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935532-E85D-4A53-8065-0A5C0228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9B8414-9A6F-4129-BB9E-CA6E148D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7CBC9F-8D99-4CEC-BEE9-376367A6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49635C-A99A-49E5-A157-26501727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603BF7-40B5-49C8-82BC-43229870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BBA880-C5D5-48AB-8633-598A2F41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4A41B9-FF35-4A2C-ABC1-B028D1B4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75DC6-0193-4056-95A1-911A2F68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3313B8-AF02-4FC8-A4A4-A362EEF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8827E6-8DE1-48FA-AF72-E28AC535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3AE191-1C55-4908-801D-6EC41BEC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F60A31-5CA3-4F5C-A449-42C1EBB9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813E78-8912-405D-94B4-8A7D0303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1A0C35-FF9B-4D98-8B0F-B3AA2050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872E28-54F2-4AC8-A2EF-70E31FE9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52C3C6-B8C5-41B1-8638-D85AA6D1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3C24D2-8FBF-40D5-BD29-BD6ECA3C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03B07C-2B61-421F-BC1C-EC24436D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C057E-9727-4DFE-9E85-3D39A291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A03D22-3E87-4EE5-A785-2C1B9CF1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5E1601-7090-4DC8-8BF2-56C2B11C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2C4B5A-682C-4A9B-B9B0-1C576C8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1B0E2C-70B1-47BF-8B2E-3C3C1273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49DCFB-E645-4DAC-AF14-181BA31A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945A98-E40E-4F4F-87A2-4C3013BE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DC972B-679D-4949-A098-EC1F66C0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F2C51A-D281-4619-9DDF-E7F06A64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3FB116-4914-402A-8B46-4C3DFBB3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535219-46E5-4E74-B4BF-5C5426F4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6D09D-3179-4092-9334-39354FA8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6ABD24-9029-40F5-B5D5-ADD7AE82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4210D7-36DC-4E06-A717-49E78844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D0CAFD-AC8C-4EF4-9359-DD4D5E32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3A40B6-92C8-45DA-9BAF-574C205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FB5867-CA5E-4EBE-9D07-71476CCC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1FAEB8-619E-4378-A9D0-FA4A41F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9666DB-E6ED-4784-85A6-87A0E38A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8286E7-35D0-4E21-9E18-0783F84B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2CB6CF-E184-42C7-A850-A55F94D7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014994-DB7C-401B-9B5B-D6499C09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0FD97-6040-4597-8830-D5AD155D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1AB760-75BE-40C1-98C0-2B21B885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202E3A-0E12-44CD-AAFA-B6CC78CD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6BB465-EC54-4677-9912-1411348C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1FAEAF-F505-4292-BA39-FDA123B3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8D4125-F558-41CC-843C-38940EB6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501320-6214-426B-85B7-B6878942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E74030-E062-402D-81EF-591163FE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3D58BB-29D6-40A0-B2A8-AA1B458E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FA5828-06B4-405C-BC87-86A87999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9DBEC5-F303-43EE-AA78-A49D4723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896DA-144B-4DB8-94CE-821B9C69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CE8BBC-21C4-4203-9135-EA4E65B7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AB8F1F-0A35-4AA2-A482-FF1D9F43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E94CA0-E2B9-49E0-AA75-B757C7D2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A7052D-572C-4CD2-BA7C-30D6C2BB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A6CF20-7CFA-4BF5-8D10-4CA93C2A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0F5C7C-F6DD-4A67-8D4E-E475346D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7F8AF1-A375-46C3-A24C-FECA8251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D0CBC7-8359-4B41-ADBE-9D0BDA5E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73D219-D155-4EBF-981C-AAF5A8CF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827982-B8B8-41BB-B4C4-B8544BB0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25E9A-6B5B-42CB-A26C-BCC949C7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F71061-613B-464F-BA06-AB51EE68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E081BF-3174-452C-96D1-DAC372BB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8634EB-039E-44D7-9546-BF3C9E84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BE6080-E34E-4EE2-8A6D-78ACCB45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B6359A-47C0-4F04-8E29-A7A094D5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95DE38-1C46-49EA-B7AC-65D88F68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CA800A-9CD3-44B4-B6DC-D287EA81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1F7E70-C622-4A57-B61F-FAE8B621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FB1338-FE2F-4731-841D-B6008FDC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97912D-1A6A-40D8-A89D-DC82549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4F1-DB7A-4F86-A8E2-A5E7C2C6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84291-7A8E-4A30-8F67-DDFBD753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ACF906-1D3A-42D2-8F5C-BA2B0184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958F56-61EA-48AD-99E2-4A259967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F32457-7A3B-4564-8DD3-E68EE111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474687-6255-4EC1-8F69-51A8660A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4656A1-D5BE-4940-807B-B0F21C5E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2A5CB38-3BBE-403B-9755-BF6E1588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669536-54FD-4313-AB14-66B7ABC1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E6F860-830A-4CCC-82D2-5AE8F00C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621E09-08DC-48D1-B095-8134AC09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EE927E-71B3-45DB-96AB-D2671DA0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14EE2-33E1-4534-AD88-8F2519F3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79E566-1529-415E-BA08-53BE2650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01313B-9461-4CC3-9563-486E437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E20B8F-3656-4817-B367-92C8CE50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CAA207-A45B-4487-865E-5BB37F50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9CCD936-81DA-46B3-A6FD-E19D550F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B6DAB4-24CE-4F9F-A559-723175D6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5A92D40-EA09-4AB1-9E7C-5B30F6A0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68B802-16F3-4F6F-B0E1-129D728E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953304-1B5B-4177-9964-81140FC5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FF74F6-CC30-4555-B9BE-38B611D7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32961-963B-4829-AD33-AF86F261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A3FEAA-0807-4901-807F-104776AB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A26ED2-B6D5-4358-8A13-5C4B51F3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7AB552-7434-4174-A636-A45F0B51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BA97DD-4932-4EF6-9490-15C1ADEB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B2861C-058C-4C4C-863C-4525587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3163DE-3393-4BB9-807F-FF6AB07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32527C-CFF0-46E8-9DB9-13D3ECA8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494475-4D65-47A4-A98F-5C7FAC5D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3E9B9CB-2DFF-46B0-B9DC-B8F059FE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BB02F55-23B5-4DAD-A59A-107620A5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6F65A-5228-491D-B16C-9E79B03F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099801C-3858-4FA8-B5D7-2D0903E5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A79D8ED-A163-449B-A4E1-FDA8C79A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9B5ECCA-BA1C-4F77-B9C9-AE46A3A3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EEB805-23BE-407F-A515-0A004B51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47E78B-B03C-4DD1-BFAD-89F1256E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65629A-7061-4B64-92CD-F1F6BC9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5304BEB-996C-4969-83D8-28F6751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F45F95-548C-47F3-9BA1-F41CD5EC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1DADE5-CF6B-449A-BC56-9B4AF817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07ADCE-D777-4010-A3A1-5F4E3631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FDD05-0FF9-491E-80C7-801FF639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72F221F-C878-4B75-811D-07BEDAB0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E5D7AE-FB69-4445-A8B0-6834C3DE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9B21869-8F28-47F9-94CE-E4C4531A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C6A836F-64DD-4720-9C1E-267D1B57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5C4415-506E-438F-9F79-7CBFD80E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03DD2EC-C1C5-43AF-9869-6556A683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A632202-56A5-4F24-A0C6-2FBBC74A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1858960-6FB1-4E34-BCFD-6FDA78EA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7121E5-0B89-4499-AFB7-AECB0F52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3C2753-E14A-4C2F-9B18-CE2CFA55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5EFDC-D279-4990-B1CB-D46D18A6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63EA7E8-5346-43D5-8B9D-AD584B4D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40ACC06-832E-47B6-999D-4C76EC4C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82A2E96-E97A-4D04-B72D-D49950C4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83EF3-0916-4BBB-B0A4-16378B2B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07789-C09A-4FAA-AD5B-FB88EBEC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8A0F1-6027-4831-B3A9-CECB4877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3B72D-B18B-4962-A8E4-9FD2E96C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FB8-A78B-4C88-B57D-0B347AD7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8EC3F-581A-4438-880F-94275642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B43B4-C78C-449A-952A-F2CA85E4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4CA2A-08B5-4EC9-B285-69DEB2B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C55CC-5665-4BE7-AEC0-3554C2C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93D1C-C6D5-4009-A8BC-335FAA1A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41EDC-B7C1-4FD4-887F-0DF7E591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9F06C-7440-4730-8C21-00244C37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34DCF-8F22-481E-8952-133A97DF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A921D-0D70-497B-93E6-777C3705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3B658-F6B7-42ED-8F89-926AC6D5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1BB-1DB2-4050-BA02-0AB96259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4D7742-CF3A-4DC8-A487-8B6BFBA9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4AD50-65D1-4C33-9ABB-624AC4CB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89306-1E94-4E8B-8B57-E79C8A36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3C4EB-A832-40BF-BFD9-5A2DD03B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4A083-CA70-48E8-B639-76104AD8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022B3-5BFE-4D41-8A93-D6B38563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A73B3-5D22-419A-9F4E-2667D2E5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50021-2D98-4768-8B9C-031C853B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6E1CC-3249-4F72-ABCD-4FC12BC3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C34EB-236D-4396-B552-D738C3F5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0FF-D4DC-4D9E-9ABE-18413DC5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06522-96D6-4E4A-A6FF-0C4C112B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6D8A2-E744-42E4-85B2-9AE39AD3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FB0A4-1297-4C97-815A-B915FBEF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44884-8CAD-4955-B7A3-515C98FA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4FC5D-7384-45EB-99DF-EF4DE649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D2F7C-6D3F-4CAF-89EC-6B32D09F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29463-CB95-419C-87B8-7C72D9A0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5F0C0B-AF86-4C3D-9CC4-3C4AD202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0C04C-8241-40CA-8FD5-F3FA09AC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76ABD-AB39-48AE-8A8C-0A471F29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C38-9FDA-4203-A567-7FE803AE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511DD-3BDF-4C8C-A946-D9055554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339E1-4312-40D9-AC0D-23E25207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D0BA8-4E66-4A4E-8FEC-92936257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D4780-B04D-4E25-9210-10FCF88D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7F8F2-D9E5-459E-853B-77C5B4AA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27B4E-BEE3-41F6-A0E6-1A603AEF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E7A8A-5345-41EB-B59D-2176261B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70CEE-8575-4B19-88B4-DCDEC65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4081F-58D9-496D-AC96-6A090336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5A6E9-7C5D-40E5-A7B5-BB77936F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366-D448-4BA2-B7CA-E95C7909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B6D23-153B-40CC-895F-EC4B0991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213D7-438E-4676-AD8B-A68D6652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54895-2BC4-4433-9F48-FEAEFD77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A0DEF-ECDE-455F-945F-5D40DC6A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C84C2-F25D-4036-85E8-09AA07F5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99311-822F-49F6-8FAB-95601829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C6C31-2B0C-4B28-B36B-B5F6F57E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68D07-13CD-4957-A379-47F2E0D4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E8766-715A-45AA-A504-1270910F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7A51D-1CC5-4D26-A546-C16739E8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A48-FBC0-419F-9527-FD27B9E0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E8C2B-EF2A-4EF6-9488-0DCDA42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97288C-CD19-4905-A881-ADF8B618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7E4FB-E08B-4CDE-99F8-F7B8C5C5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16382-31EB-44A2-94AA-9BF2D6D7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C98AA-7472-4A77-9CF0-36F53598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82AEA-AB6E-49E8-AA69-70FEE24F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6C030A-9BE0-4656-B4C3-6E0BD8F6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382DF1-BF87-4FC3-B65C-530FFEFB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7C45C6-1F05-4A9A-9AB0-DE3B72D2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3EE186-0FA3-45EE-B73E-950AA883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A75-31CA-4690-B8E2-1DBCAFFE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03C77A-E184-4FD8-A6E3-AE83E9DA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56832B-C72B-4363-A5CD-A66F594A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BB8D24-3C0C-456A-A73D-C2D9757A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3A862-17A8-4B70-B724-DE135EC2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4C0BCE-59CB-4CF7-9359-1600D56E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609E18-B4B5-4731-A6A4-98D5D6E8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67A420-BEBC-4371-8AB7-0269150D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48AECE-4076-401C-9EA8-E0EF2AE6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6A7D0E-E6EE-47E9-B2CE-2882426C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285FC8-D753-48BF-B5F4-B0FEA86F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FF1B-A9E6-4125-94D6-777ECB17824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9"/>
          <p:cNvSpPr/>
          <p:nvPr/>
        </p:nvSpPr>
        <p:spPr>
          <a:xfrm>
            <a:off x="888984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780F-25BE-4BEC-8C36-4748C5398AA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3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3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D323-2D66-47BE-ADF9-9DFC06CFAE5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3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3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8368-3995-40F5-B519-AC1535D8BED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6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3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F433-AA49-4A47-8EF9-98EA7F65287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ADFF-206F-4395-96E5-611EA54649E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4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4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DF40-B6AC-4F69-A932-0427CC8D462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ftr" idx="4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4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5953-3E6E-4B1D-8B84-E046D7DA971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4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5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F64C-7CF6-4D0C-9A9D-7BE387F369A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5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5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7A0A-A6E7-414B-9BFC-83B0128661B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ftr" idx="5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5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B318-65CB-4E55-8FD8-EFE359D67BB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ftr" idx="5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7162920" y="136440"/>
            <a:ext cx="228600" cy="52578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7467480" y="133200"/>
            <a:ext cx="1447920" cy="525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7758-557B-45CC-85AC-79E07C2CD8D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 rot="16200000">
            <a:off x="7296120" y="3698640"/>
            <a:ext cx="2933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5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5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2A88-28CB-4FFF-8273-8B4C19A258C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ftr" idx="6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6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6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C135-68DA-4FEF-9385-CED903DD23A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ftr" idx="6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3E67-941A-4C26-8F91-CA4B477C704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363F-74E1-496F-B8D7-87B7CE32E36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9B95-659F-46CA-81C2-A8EB9F59706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2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6"/>
          <p:cNvSpPr/>
          <p:nvPr/>
        </p:nvSpPr>
        <p:spPr>
          <a:xfrm flipV="1" rot="10800000">
            <a:off x="434520" y="6171120"/>
            <a:ext cx="7086600" cy="6858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434880" y="0"/>
            <a:ext cx="7086600" cy="1981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2663-62AC-4175-A74C-171D4FA235C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2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94A7-6278-4EA0-8811-870EAC24931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B21B-E769-49FC-993D-99AE3E7DD8E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7A95-2D7D-4290-9BCE-74CF3189167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228600" y="5285880"/>
            <a:ext cx="867240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 HACEMOS PAN 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 MAKE BREAD 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4" name="j0178459.jpg" descr=""/>
          <p:cNvPicPr/>
          <p:nvPr/>
        </p:nvPicPr>
        <p:blipFill>
          <a:blip r:embed="rId1"/>
          <a:stretch/>
        </p:blipFill>
        <p:spPr>
          <a:xfrm>
            <a:off x="228600" y="200160"/>
            <a:ext cx="6858000" cy="50148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213840" y="228240"/>
            <a:ext cx="8091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 QUIÉN INVENTO EL PAN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HO INVENTED THE BREAD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6" name="j0321055.jpg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254640" cy="42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7086600" cy="381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y haga clic en los marcadores de posición para agregar sus imágenes y títulos propios.</a:t>
            </a:r>
            <a:endParaRPr b="0" lang="en-US" sz="1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56760" y="571320"/>
            <a:ext cx="7643880" cy="2076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El pan aparece con el hombre en la prehistori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e bread appears to man in prehistory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9" name="j0341658.jpg" descr=""/>
          <p:cNvPicPr/>
          <p:nvPr/>
        </p:nvPicPr>
        <p:blipFill>
          <a:blip r:embed="rId1"/>
          <a:stretch/>
        </p:blipFill>
        <p:spPr>
          <a:xfrm>
            <a:off x="428760" y="2928960"/>
            <a:ext cx="7500960" cy="28573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5105160" y="228600"/>
            <a:ext cx="3538440" cy="62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Los egipcios entre el 8.000 y el 6.000 a.C. ya elaboraban pan como lo conocemos hoy en día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Egyptians between 8,000 B.C. and 6,000 B.C. elaborated and bread as we know it today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1" name="j0321055.jpg" descr=""/>
          <p:cNvPicPr/>
          <p:nvPr/>
        </p:nvPicPr>
        <p:blipFill>
          <a:blip r:embed="rId1"/>
          <a:stretch/>
        </p:blipFill>
        <p:spPr>
          <a:xfrm>
            <a:off x="304920" y="357120"/>
            <a:ext cx="4754520" cy="6143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285840" y="213840"/>
            <a:ext cx="82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Qué necesitamos para hacer pan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do we need to make bread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3" name="j0321055.jpg" descr=""/>
          <p:cNvPicPr/>
          <p:nvPr/>
        </p:nvPicPr>
        <p:blipFill>
          <a:blip r:embed="rId1"/>
          <a:stretch/>
        </p:blipFill>
        <p:spPr>
          <a:xfrm>
            <a:off x="281160" y="1566720"/>
            <a:ext cx="2412720" cy="1609920"/>
          </a:xfrm>
          <a:prstGeom prst="rect">
            <a:avLst/>
          </a:prstGeom>
          <a:ln w="0">
            <a:noFill/>
          </a:ln>
        </p:spPr>
      </p:pic>
      <p:pic>
        <p:nvPicPr>
          <p:cNvPr id="944" name="j0321101.jpg" descr=""/>
          <p:cNvPicPr/>
          <p:nvPr/>
        </p:nvPicPr>
        <p:blipFill>
          <a:blip r:embed="rId2"/>
          <a:stretch/>
        </p:blipFill>
        <p:spPr>
          <a:xfrm>
            <a:off x="3882960" y="1828800"/>
            <a:ext cx="2633760" cy="2554200"/>
          </a:xfrm>
          <a:prstGeom prst="rect">
            <a:avLst/>
          </a:prstGeom>
          <a:ln w="0">
            <a:noFill/>
          </a:ln>
        </p:spPr>
      </p:pic>
      <p:pic>
        <p:nvPicPr>
          <p:cNvPr id="945" name="j0341706.jpg" descr=""/>
          <p:cNvPicPr/>
          <p:nvPr/>
        </p:nvPicPr>
        <p:blipFill>
          <a:blip r:embed="rId3"/>
          <a:stretch/>
        </p:blipFill>
        <p:spPr>
          <a:xfrm>
            <a:off x="6497640" y="2335320"/>
            <a:ext cx="2927520" cy="199872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14200" y="328572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Levadur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Yeas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357800" y="450036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Agu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7000920" y="435744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Harin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Flour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9" name="j0321101.jpg" descr=""/>
          <p:cNvPicPr/>
          <p:nvPr/>
        </p:nvPicPr>
        <p:blipFill>
          <a:blip r:embed="rId4"/>
          <a:stretch/>
        </p:blipFill>
        <p:spPr>
          <a:xfrm>
            <a:off x="1743120" y="2687760"/>
            <a:ext cx="2511360" cy="25495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1928880" y="5071680"/>
            <a:ext cx="1928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Sal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Salt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fade/>
    <p:sndAc>
      <p:stSnd>
        <p:snd r:embed="rId5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213840" y="228240"/>
            <a:ext cx="8091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¿DE DÓNDE SALE LA HARINA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f497d"/>
                </a:solidFill>
                <a:latin typeface="Calibri"/>
              </a:rPr>
              <a:t>WHERE DOES THE FLOUR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2" name="j0321055.jpg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254640" cy="42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4000"/>
              </a:srgbClr>
            </a:outerShdw>
          </a:effectLst>
        </p:spPr>
      </p:pic>
    </p:spTree>
  </p:cSld>
  <p:transition>
    <p:fade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428400" y="713880"/>
            <a:ext cx="7086600" cy="381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y haga clic en los marcadores de posición para agregar sus imágenes y títulos propios.</a:t>
            </a:r>
            <a:endParaRPr b="0" lang="en-US" sz="1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56760" y="571320"/>
            <a:ext cx="7643880" cy="2076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Hay que moler el trigo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have to grind the whe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5" name="j0341658.jpg" descr=""/>
          <p:cNvPicPr/>
          <p:nvPr/>
        </p:nvPicPr>
        <p:blipFill>
          <a:blip r:embed="rId1"/>
          <a:stretch/>
        </p:blipFill>
        <p:spPr>
          <a:xfrm>
            <a:off x="357120" y="2286000"/>
            <a:ext cx="3286080" cy="2857680"/>
          </a:xfrm>
          <a:prstGeom prst="rect">
            <a:avLst/>
          </a:prstGeom>
          <a:ln w="0">
            <a:noFill/>
          </a:ln>
        </p:spPr>
      </p:pic>
      <p:sp>
        <p:nvSpPr>
          <p:cNvPr id="956" name="Rectangle 1"/>
          <p:cNvSpPr/>
          <p:nvPr/>
        </p:nvSpPr>
        <p:spPr>
          <a:xfrm>
            <a:off x="214200" y="5438880"/>
            <a:ext cx="8672760" cy="14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f497d"/>
                </a:solidFill>
                <a:latin typeface="Calibri"/>
              </a:rPr>
              <a:t>Antiguamente se molía en moli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rmerly was ground in mi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7" name="j0178459.jpg" descr=""/>
          <p:cNvPicPr/>
          <p:nvPr/>
        </p:nvPicPr>
        <p:blipFill>
          <a:blip r:embed="rId2"/>
          <a:stretch/>
        </p:blipFill>
        <p:spPr>
          <a:xfrm>
            <a:off x="3857760" y="2071800"/>
            <a:ext cx="4782960" cy="35719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228600" y="5285880"/>
            <a:ext cx="867240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EL PAN ES UN ALIMENTO SANO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READ IS A HEALTHY FOOD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9" name="j0178459.jpg" descr=""/>
          <p:cNvPicPr/>
          <p:nvPr/>
        </p:nvPicPr>
        <p:blipFill>
          <a:blip r:embed="rId1"/>
          <a:stretch/>
        </p:blipFill>
        <p:spPr>
          <a:xfrm>
            <a:off x="228600" y="200160"/>
            <a:ext cx="6858000" cy="5014800"/>
          </a:xfrm>
          <a:prstGeom prst="rect">
            <a:avLst/>
          </a:prstGeom>
          <a:ln w="0">
            <a:noFill/>
          </a:ln>
        </p:spPr>
      </p:pic>
      <p:pic>
        <p:nvPicPr>
          <p:cNvPr id="960" name="j0178459.jpg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6858000" cy="492948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13840" y="5285880"/>
            <a:ext cx="8672760" cy="1419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 fontScale="82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alibri"/>
              </a:rPr>
              <a:t>¡¡NO ABUSES!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Do not eat much!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fade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00:17:14Z</dcterms:created>
  <dc:creator/>
  <dc:description/>
  <dc:language>en-US</dc:language>
  <cp:lastModifiedBy/>
  <dcterms:modified xsi:type="dcterms:W3CDTF">2012-03-08T00:51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3082</vt:r8>
  </property>
  <property fmtid="{D5CDD505-2E9C-101B-9397-08002B2CF9AE}" pid="3" name="_Version">
    <vt:lpwstr>12.0.4518</vt:lpwstr>
  </property>
</Properties>
</file>