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5.png" ContentType="image/pn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5B55-49D4-4C32-A1EF-303E746CCA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653C-C937-48BC-AFCD-AC851ABC47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59CC-3E95-448A-B8EE-43756A7313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29A9-7DD5-413B-AB28-A25F33FD85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D7D-B5BC-48C6-A9FC-EE102E3AB7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3B73-A8D3-482B-BDCB-F5D0CD6B44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E3D2-1DF5-4609-A0D1-6B8EA2BDC6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A45B-88FD-4FA5-81DC-0C1B1F69F1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5EB-B6D6-4206-919D-3FA28C0ACC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AE0-C9AC-46AB-9002-278B9407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209-2749-4652-AC03-EAB6405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228831-64B1-49FD-B8ED-A9FA7732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472D9-BDE3-4173-96EE-50161133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5C109-AE21-4AE3-A90D-0EE81C1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7A5C2E-4734-4926-807C-951CC49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C1380-1C4E-4B63-B2D9-4EF9675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D2EB2-1FC8-408A-970E-4A2636D7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414C89-6B59-4792-AFAA-8BB40D4F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268E6-4B47-416E-B3B0-A31557AA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370A1-6A40-4387-BB74-B8B61010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0EE07E-BA08-4E74-BA40-7E2F34BD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484-CFAC-4864-8200-57903691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733DCF-61E1-4615-9640-49BA7FE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EC483B-F885-4D9E-AE53-86157145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820C8-831E-4C20-ABEF-6942B82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D894C1-1B5F-4FD7-8ECA-EA7D90C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CA213-9A73-473B-901C-01A4029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507A1A-72DD-4271-BE45-B442D08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348CFF-5BB2-4BAB-835C-9AAD07B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FC21D-BD3E-485A-896C-6B245DD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6C16F2-3503-4316-849A-7EF806ED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D0107-C5B8-4910-B3F8-D5731552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9E3-A159-4772-8676-ECBB7552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545C83-3033-4EE7-92E0-31D54330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54BFD2-7378-46F1-A8E0-D0D95A34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3AEFB8-3A4D-4EFF-8CED-1CFAB76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9F2829-4D09-473B-A6BD-DE80D9DC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82CCC5-0CCC-42E0-90F5-8D2796E7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1E5097-730A-4065-86E6-1D538628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38A7D0-2F36-4955-AE1B-7735A05F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E11B4E-1B33-4698-BAF2-262DF8F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85821E-5802-43FC-A347-53838DBA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F8185C-A342-4D5A-B813-1A1241C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87BD0-C23B-4DE0-AB07-6AF10B7B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B13329-7FA7-42BD-82B4-4A08DE35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F43F36-99D3-41B0-912B-44CA0933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ED3630-26AE-435A-9426-96F34552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B20860-A6E8-4EF8-9EB9-90408B8B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2D21F5-14EA-4580-91BC-4223848F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19061D-2FD8-4DA6-9C42-21E9D5E8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1494F-49A1-4769-832C-6D49258C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240E4F-E295-4586-9243-AD25BAC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42D51-3AE2-4C9D-87E7-190AF04A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E23E49-A101-4E41-948F-242F872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EEC76-5F89-4131-AA7D-A1743F5A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785867-D844-4380-9686-58E4CCF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B860DF-3E5D-412D-8C28-EE62E8D9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2F3AEF-9D44-4901-A439-750ECB9D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760A66-F07E-4748-9EED-082C5435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E10B13-1BCC-4D4B-A3FC-38CEEDE1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C97E3-5F12-44C2-83B6-A922DBF6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AEBB97-81AC-4653-8E3F-ADCFA3D5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9F3222-A575-4FA9-B42B-26B8A07B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DF5B3B-92DB-4656-B092-F7A625DB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69D7B3-7210-47E8-A04C-72B8E507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3FA9-E014-41D7-80EF-DAB8E1B2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DDFBB4-D06B-484D-A1C8-9B91A3EA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5FF2EA-0C08-4F22-9E78-70FC105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A11ECA-DA0D-489E-9F3F-1DFFD7D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0F8367-55B2-441B-980C-DDECD8E0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6C806E-51B3-4C91-BBC2-CA187BB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46B95A-E7F4-4CAB-AA49-213BF956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23A060-841E-4D61-9F26-02936F11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732426-2A8E-4535-806E-FE3694AD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3C7D43-F0E0-44FD-BA94-9589C6A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C9311E-FB36-4361-AC8D-4CA53864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70FAE-01BD-4993-A295-AFA7398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BF831F-7712-4FE1-BDC9-0C12FC5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57484B-D950-4D0B-9309-B103508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B1F1D6-F25E-4DEF-A1F3-534426E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D0C1DB-0AD4-4C3F-8784-1EA5838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95F0D7-9B3D-4B29-BE46-C996029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5A2283-5FB3-4D96-9146-3CB8A2C4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EE347F-9B62-4728-8243-E67645AD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2A247A-1467-4AE3-AA0F-2B7D779B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E438AA-E87A-4100-9A7C-29C2FD8D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154E77-D986-4A35-B872-5722081C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10C15-A2EA-40A0-AE4B-E8DA0519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FE0A02-406E-491A-B7BB-8DC63EB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53FE54-F975-441C-9A23-1571F188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DA0989-3183-4115-A0A9-1F90B7E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4260EE-C098-4A0C-BED6-6770FF87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34C19C-796F-41CF-ABB8-E8C59F1D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935525-38E7-4882-8F93-FBA7D14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54D5DF-B1A1-4F91-8853-9418F2B9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2FEA4-2304-4681-B976-669A14A8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CB9300-C2CA-4657-A770-72FD5F97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F35C82-B901-4B36-95A0-8528AD16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DEEE-1A4A-4D0B-ABA6-4C59C53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CD7276-3004-4AEE-9FF6-F359E2BD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D7511A-7276-4026-AB4D-AD33350F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910E2A-D38D-4FF5-ABF5-4822BED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118D49-4873-46D3-A086-B6FF13D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389593-A96B-43EF-8B99-6000819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10F970-7A77-47C2-8DA8-9A608924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9AA51F-A3DD-46CB-A18E-8EE7D926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FBFA6E-8405-4B63-B73A-7F03772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BC8528-1B4A-4989-B14C-85CF3F8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B99135-20F7-432F-A1A0-C91E001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4F3D6-7F60-4123-8851-D5F9472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37A674-D87D-4B37-A645-2F2A73BA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2581F1-5E22-438B-B808-FFFD4F36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833B0B-3D2B-4150-B801-7A07FD85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081EF6-5763-44E5-AD80-C8CD8BD1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E899DE-63BF-41BF-939B-640B774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653876-0C8F-4216-B4C1-2947AC1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250536-D4F4-4EAE-A1E5-C27A3DA5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7A0704-AFC5-4AA7-A853-C628AA52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FAFD25-6720-4267-AF31-CDC9D465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44900D-6941-41C6-9ED3-277A3EA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AAF-4B52-45B9-A52E-C65E376B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8A80E-1B60-44A3-8AF9-9317D6B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E7D766-2AF3-43A0-B12E-D5BCF105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64493A-EA03-4D5D-83B5-7D4AB1E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9913B1-D5A9-4F9C-ACF6-63C13CC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4D12E7-446B-48C6-B661-B5955C1B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2C7CE3-AFBF-4688-8B63-E672F341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890B85-88BF-40CA-BB79-DEBD48D3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9BAA62-A464-4069-BBBC-DBBE9343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A89597-32A3-4ABF-931E-59B471F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2C4B92-6F1B-430F-966E-6664391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00E169-55D7-469A-BD10-963EF8C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3567B-C815-4AC8-A6FD-A623EBB2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B1A911-C5F4-4250-9BB4-D0A7A7C4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2EB910-6E90-4B53-91C4-D291251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A318E2-32C5-4AAF-994E-AA11F83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516A13-6977-44A3-B593-059EEAB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EFD872-8CB3-4B10-838A-54D20D8A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7D9D29-FA43-4458-870F-AA6E211E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B57010-2A32-409D-B20C-83C9B49C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3351EC-AF9B-4A65-B1AF-7A3CA855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50F2BC-C911-44BD-8FCC-3A1C55AC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248746-6ECA-4BB7-82BF-EBE4D06D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3283A-F39F-441A-8168-BD2F1A25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63EC24-6867-40A2-A00B-878BE1D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CC344C-857D-4B9D-9DF2-14CF9F1F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10B970-83D0-4AF2-9069-A39674F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EBA17A-3F45-48B0-84B8-4BADB2B0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F2927C-FDC3-45D7-A231-47EC5D31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C1747B-3F0D-4FB2-8E66-EA0276F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7F29BE-74FF-4496-A276-44A7D38B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B9C1BF-E982-4442-966F-E3ACC882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052200-6CBD-4A33-BDF2-96A02235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D1DA93-7925-4B25-89B1-34CDE7F3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46C2A-3C44-418E-B2BF-504CD27A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0169C8-EE0B-4704-9662-3E484292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0B4146-042A-4A40-8610-262234B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D0825E-0457-444C-AD9F-8BF133B0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F9E827-5877-4C2F-B37C-EAE15FB0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F6F983-1886-4859-83BE-5DBB3DC2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09E8B1-82C5-43F7-AEA3-2F88714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C0B9C3-F0B3-46E0-8DF4-819B57D1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6B8130-0C7C-4983-B48E-683583E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7B2023-2DFB-401A-986D-C251C2CF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4BEE50-8AD0-4963-8EAF-DA813D8B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3623D-A2D3-4F06-B65B-BA52512F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17E233-00E6-4021-90B7-9F049064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19D70B4-7929-443A-9315-37442006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95B8D2-6EFE-46A8-AF5F-FC01667D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B88B142-C74C-4118-9311-E0C9417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2D6301-2CD8-4F46-B23C-3A501C6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8AD006-2596-46CE-93FA-2CC6E75E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4F9F76-A213-4F86-8F83-BA60280B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C9DF9F-DEAF-478E-898F-D9B049E3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C5668B2-1BF2-47B5-9AA2-30D6B8AB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86476B-6C84-4317-88AD-4334FDC6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A4438-23CD-43D0-8F64-0CDCE7FC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2A31F0-053C-44F8-84A6-A5209F2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01CB87-C6DD-49D9-B7D0-70ADF5E0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42BC26-2D3B-4020-BFEF-062C5417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10263-D147-46B7-BA04-73DF4F5E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73C17-A592-4394-8B00-8428765A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98815-370A-4E17-A883-BB8388C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4E4F2-65AF-418A-B5F6-73A4877F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A07-F328-4D6D-9635-1A26323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E56A3-1CDC-4029-93B0-7E646601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68A0E-7A6F-4917-BC94-CB01AFB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2CA7B-1D32-4AA5-9602-E9F16BD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652A3-DB7A-4176-A756-A8DA9615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36CD2-C100-4236-A788-CB7E1B4E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295F3-41F1-4439-B352-A68D0455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5EFF4-8B42-4810-BD89-57E0AA83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21E17-4BF3-4286-8AB2-BE596C28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D2632-E25E-4291-A5E9-A8B11018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B892C-3191-4248-89CE-8AF088F2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CB4-D95B-4760-AD42-951AAD99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31DB4-4F51-43B5-B179-330D4927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9EBB8-D2BA-4A95-B60A-EC1BDCDC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29F95-BF0E-416B-82E3-38CC184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8AC50-C024-46A6-BC8D-518CE3F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BBB30-EF9E-41BB-B064-DB2C47B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361A1-A3D7-46AF-AB39-42C6EEA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6A0FD-613C-42C6-B2E3-797732BD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EBF51-1D73-4114-A104-8FEC6A9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C79C2-9B61-43A6-8633-818EDAED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B402B-CF21-4DE8-8B0C-83DAB8F6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37F-A818-4170-9AF3-96953B1D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DB206-F59E-4E2A-82E1-5427362B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D4B9D-8530-4DB3-AC69-CBB2AF3A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A4A17-799E-4177-A28A-E026C1EA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B984F-DAA3-4F6E-9180-86182BFD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1475F-9A36-4A95-B476-CFE4279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3F9BB-5B4F-44CC-B7CE-53F5C018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49714-7B94-469E-AD89-9706492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A1BB3-DEE9-417C-8F2C-B390C31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4BEA5-8B9F-4A4B-B20E-8DB50D2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2EC50-A388-44BB-A7BA-ADD25092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CCC-525E-4226-AF08-15452371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61110-D666-41AF-A372-8D516DEF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EA905-5F96-4BC5-B519-E446EC86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276F4-DE66-4A25-AD19-E3C0975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84B6E-DAF6-4E8F-A0D1-2289FAE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6F4AF-43BB-4794-93AB-9577AF6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59118-DA0E-42D1-9BF0-3F15D124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1C6F0-FD76-4095-9632-84561FC0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64EC3-19B5-49F3-A794-4AC1ED01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1F3CF-864A-4F96-9EE4-197DE02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25C87-F1C8-4911-A3F0-C9874B1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85E-EDE7-4F9E-A93F-0057AF3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1C903-42F3-4553-9ACA-9085E34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0B126-DE46-4AA7-8839-4A868A35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ABE27-1F1A-49C7-8F29-86DDB5D5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291D8-D3D8-43CD-BC1A-B3F3ECB9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6DBFC-8DE0-4D9B-AE47-2C7E1B92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CA04C-0DEA-417D-AAA4-DE1B1D7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BF17E-2E1A-437C-9436-EE2B4A83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4905A-4818-4F5E-8A73-539D8050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01A2F-D4D5-4918-BA2B-D960D55E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58E2B-E193-4193-B72E-B2943B1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7F3-A41C-4154-B194-1226DD76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B9A9B-CB9B-4079-865B-D320AAC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8310F-9801-4AA9-BA44-52744A7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A7A37-CCE8-4DDC-BB34-F562406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12A25-7E62-461D-8B12-D8418B17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08973-2554-4AFC-B21B-11A2CF83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25420-B275-4431-BEF3-B4869463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57D425-BC3D-44D7-8BE2-2E218111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570F40-7E08-465E-9912-C97A8A5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D6CA7-B221-40F5-86A6-E7032490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12843-331C-411C-9289-EEA02CA3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354-3ED6-425B-B155-B6C4B3E8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DF0E8E-DE9A-452E-B474-0730CCB8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281F27-A833-4BA8-A1B7-46B4BC15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F786F-1C58-4EB2-B5AF-FE52A6C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34B63-87EB-4F66-B579-873DA3F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0CF2F8-10EC-4DCE-A259-688153AE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C64CE-5570-42C2-932C-9929DEC6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12115-F4A6-449F-AD3C-D1551AB6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6321A-C36C-43C6-9B73-48A44B7A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8E5F6-6478-46C8-AEF9-924B40EB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11E1C-F3CB-4BDE-BCB9-2AACE80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38D8-9485-4A42-86AE-52D8D839499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888984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10F-ED0F-4097-8349-AEAFFAE9503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3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5F7F-F80A-4166-A209-0D42BC035F2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3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3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EAD9-3FA7-45BD-B7CA-DB415865A0C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6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3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E08-AFA0-4BC3-A1A9-FB8CD62AB75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BC8C-7157-4D7B-9348-B0B571AA3A8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2ADC-A76E-41C6-A537-0AD63099FD9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45D8-9ED4-4377-ABE7-07BCD20A511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5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CA7B-4D95-42CB-83A4-25D7A3F78CF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5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5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A82-8CEF-4650-9357-2C9FD1331E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5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85D5-38F6-4042-AFBC-66737E04102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5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02E8-5736-4469-B366-95ECFD00812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 rot="16200000">
            <a:off x="7296120" y="3698640"/>
            <a:ext cx="293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5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8646-B21C-4558-9903-0095B045DD2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6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6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9F8-0E84-4CD1-A447-EE861AE657B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ftr" idx="6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6B5-3892-488B-89AF-7264A1212EC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BEB-89F2-4613-961B-4DDAF8E3C01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BBDC-E8D2-4D59-949A-A1260794491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2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 flipV="1" rot="10800000">
            <a:off x="434520" y="6171120"/>
            <a:ext cx="7086600" cy="6858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434880" y="0"/>
            <a:ext cx="7086600" cy="1981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09C-F7CA-41D9-A928-F0CEC772EFD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7AF6-42C7-490D-B406-6AF08DDDBA9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BDB5-CCEB-4841-9B19-8FFC26A8172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FB71-F7E1-48E0-97EA-6621D38763A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HACEMOS PAN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MAKE BREAD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4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 QUIÉN INVENTO EL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O INVENTED THE 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6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pan aparece con el hombre en la prehistori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e bread appears to man in prehistory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9" name="j0341658.jpg" descr=""/>
          <p:cNvPicPr/>
          <p:nvPr/>
        </p:nvPicPr>
        <p:blipFill>
          <a:blip r:embed="rId1"/>
          <a:stretch/>
        </p:blipFill>
        <p:spPr>
          <a:xfrm>
            <a:off x="428760" y="2928960"/>
            <a:ext cx="7500960" cy="28573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5105160" y="228600"/>
            <a:ext cx="3538440" cy="62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os egipcios entre el 8.000 y el 6.000 a.C. ya elaboraban pan como lo conocemos hoy en día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Egyptians between 8,000 B.C. and 6,000 B.C. elaborated and bread as we know it today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1" name="j0321055.jpg" descr=""/>
          <p:cNvPicPr/>
          <p:nvPr/>
        </p:nvPicPr>
        <p:blipFill>
          <a:blip r:embed="rId1"/>
          <a:stretch/>
        </p:blipFill>
        <p:spPr>
          <a:xfrm>
            <a:off x="304920" y="357120"/>
            <a:ext cx="4754520" cy="614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82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Qué necesitamos para hacer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we need to make 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3" name="j0321055.jpg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2412720" cy="1609920"/>
          </a:xfrm>
          <a:prstGeom prst="rect">
            <a:avLst/>
          </a:prstGeom>
          <a:ln w="0">
            <a:noFill/>
          </a:ln>
        </p:spPr>
      </p:pic>
      <p:pic>
        <p:nvPicPr>
          <p:cNvPr id="944" name="j0321101.jpg" descr=""/>
          <p:cNvPicPr/>
          <p:nvPr/>
        </p:nvPicPr>
        <p:blipFill>
          <a:blip r:embed="rId2"/>
          <a:stretch/>
        </p:blipFill>
        <p:spPr>
          <a:xfrm>
            <a:off x="3882960" y="1828800"/>
            <a:ext cx="2633760" cy="2554200"/>
          </a:xfrm>
          <a:prstGeom prst="rect">
            <a:avLst/>
          </a:prstGeom>
          <a:ln w="0">
            <a:noFill/>
          </a:ln>
        </p:spPr>
      </p:pic>
      <p:pic>
        <p:nvPicPr>
          <p:cNvPr id="945" name="j0341706.jpg" descr=""/>
          <p:cNvPicPr/>
          <p:nvPr/>
        </p:nvPicPr>
        <p:blipFill>
          <a:blip r:embed="rId3"/>
          <a:stretch/>
        </p:blipFill>
        <p:spPr>
          <a:xfrm>
            <a:off x="6497640" y="2335320"/>
            <a:ext cx="2927520" cy="19987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14200" y="328572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evadur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Yeas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357800" y="450036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Agu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000920" y="435744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Har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Flou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9" name="j0321101.jpg" descr=""/>
          <p:cNvPicPr/>
          <p:nvPr/>
        </p:nvPicPr>
        <p:blipFill>
          <a:blip r:embed="rId4"/>
          <a:stretch/>
        </p:blipFill>
        <p:spPr>
          <a:xfrm>
            <a:off x="1743120" y="2687760"/>
            <a:ext cx="2511360" cy="25495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1928880" y="507168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al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Sal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5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DE DÓNDE SALE LA HARINA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ERE DOES THE FLOUR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2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y que moler el trigo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have to grind the whe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5" name="j0341658.jpg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3286080" cy="285768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"/>
          <p:cNvSpPr/>
          <p:nvPr/>
        </p:nvSpPr>
        <p:spPr>
          <a:xfrm>
            <a:off x="214200" y="5438880"/>
            <a:ext cx="8672760" cy="14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Antiguamente se molía en moli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rmerly was ground in m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7" name="j0178459.jpg" descr=""/>
          <p:cNvPicPr/>
          <p:nvPr/>
        </p:nvPicPr>
        <p:blipFill>
          <a:blip r:embed="rId2"/>
          <a:stretch/>
        </p:blipFill>
        <p:spPr>
          <a:xfrm>
            <a:off x="3857760" y="2071800"/>
            <a:ext cx="4782960" cy="35719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EL PAN ES UN ALIMENTO SANO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EAD IS A HEALTHY FOOD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9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  <p:pic>
        <p:nvPicPr>
          <p:cNvPr id="960" name="j0178459.jpg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858000" cy="492948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13840" y="5285880"/>
            <a:ext cx="867276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NO ABUSES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Do not eat much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0:17:14Z</dcterms:created>
  <dc:creator/>
  <dc:description/>
  <dc:language>en-US</dc:language>
  <cp:lastModifiedBy/>
  <dcterms:modified xsi:type="dcterms:W3CDTF">2012-03-08T00:51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3082</vt:r8>
  </property>
  <property fmtid="{D5CDD505-2E9C-101B-9397-08002B2CF9AE}" pid="3" name="_Version">
    <vt:lpwstr>12.0.4518</vt:lpwstr>
  </property>
</Properties>
</file>